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DFC7-FE58-4F3A-920F-724AAEB32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9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ACD9-898C-4767-BB91-0F8A2C3C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0ECA-A1FB-4264-87A3-51A8CB890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0401-C0FF-4095-B2BA-BDD6D5391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083B-6C27-41E1-9672-D566C4681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CDB0-8C98-4227-8CA8-16B5EF1F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2AF6-9BA9-4A14-8ABA-6B9EE31A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FD6B-5FB2-455A-A423-30D51642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6692-954C-40DA-B283-F8DD147F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23960" y="1295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68E9-52CF-48F9-A3FD-2A7C53C5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62ED-6914-47F8-80E3-3461F5C3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EC7D-4F61-4E48-83A4-92B09A5F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6B44-B7D1-4547-AA7E-559F743D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C1E4-9B8B-4FF6-8D8D-FEE72B34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49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E102-D996-486C-A05D-8ABB7CFF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DA70-090E-48D9-A08C-31EF0869C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C066-3C39-46C7-B77C-9A66AE71C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7DE9-C0CB-4C18-A155-C8A02DC4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E35C-83BB-48E5-8165-A83067C2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9894-4DF0-4F39-9393-7941B374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3960" y="1295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3148-351B-4FF4-B994-5BB2D5EF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3AF6-D2FC-47C2-865B-D29B5C81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6A51-0E0D-4A51-8123-F053D64F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AB31-99C9-4DEA-A602-935618FB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39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622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912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7947-B8E4-4CED-A187-9092AE7B5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295280" y="1701720"/>
            <a:ext cx="118080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F7DA-B723-4A81-929E-9FEE7222B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us.ucf.edu/shornik/acg5405/Documents/5405_Course Agreement.doc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us.ucf.edu/shornik/acg5405/Documents/Team Charter.doc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shornik@bus.ucf.edu" TargetMode="External"/><Relationship Id="rId3" Type="http://schemas.openxmlformats.org/officeDocument/2006/relationships/hyperlink" Target="http://acg5405.wikispaces.com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kipwhite.com/" TargetMode="External"/><Relationship Id="rId3" Type="http://schemas.openxmlformats.org/officeDocument/2006/relationships/hyperlink" Target="http://www.gliffy.com/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1980720"/>
            <a:ext cx="609588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CG 540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ced Accounting Informa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urse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you with the basic background and tools that will allow you 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acilitate and/or ass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evolution of contemporary accounting informa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equires a solid understanding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which effective systems a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signed and develop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y compon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an effectiv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ntity-wide internal control 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which efficien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atabase desig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used to improv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counting information f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the contemporary issues involved in providing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ssurance services for systems and database reliabi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in Understanding of XB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arily, to become consumers of information related to new technolo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roup Project Proc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’s &amp; Group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Evaluations (Who/wha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group member will evaluate every other group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in term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ment to th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deal constructively with confl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participation in decision-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ability for assigned task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 of initiative or leadership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Evaluations (Whe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end of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-100 point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 individual evaluation is a D or less (&lt; 67) your overall project score will be 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 Invitation or Click “Join”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if you haven’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e-mail for Inv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 address comes from e-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your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a Picture (nice but not requir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your e-community 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ve Web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Add material to any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Edit material already posted to a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Delete material posted to a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Create a new page with new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Pages, Podcasts, Video, Audio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396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iver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DFD sections of chapter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ed </a:t>
            </a:r>
            <a:r>
              <a:rPr b="0" lang="en-US" sz="32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course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January 15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GH Problem 4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nderful Stuff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do this in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Wikispace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Things to Keep You Bu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thinking about tea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nd your team members will be spending a lot of time together so choose wis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schedules of other prospective team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the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team ch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urse documents of 5405 Web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January 29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Exp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he concepts of 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open the door. You enter by yourself”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old Chinese prover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ing the concepts (Group C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e have to learn to do, we learn by doing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ristot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ing 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FD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D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ch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ing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B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llabus High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Steven Hor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shornik@bus.ucf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 Webpage: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http://acg5405.wikispaces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ice Hour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day 5:00 - 6:00 and Tuseday 5:00-6:00, and by appoin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 (Yahoo): shor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use Meebo Widget in Wikisp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396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xt 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ing Information Systems 7th ed., by  Gelinas and D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countants Guide to XBRL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., by Clinton E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ly at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http:www.skipwhit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 </a:t>
            </a:r>
            <a:r>
              <a:rPr b="0" lang="en-US" sz="32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Gliff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count – Web Based Modeling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 1 (G&amp;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Exam (XBRL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Pro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Assignment (4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ion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Po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ing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7428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 4.00 100-9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- 3.75 92-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+ 3.25 89-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 3.00 85-8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- 2.75 82-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+ 2.25 79-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 2.00 75-7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27428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- 1.75 72-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+ 1.25 69-6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 1.00 65-6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- 0.75 62-6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 0.00 &lt;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graded Assignments (UGH’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permitting we will do these in-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In Class, Ask Questions, New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W /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In Class, Prepared to discu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of p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-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solving / model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7T16:18:38Z</dcterms:created>
  <dc:creator>shornik</dc:creator>
  <dc:description/>
  <dc:language>en-US</dc:language>
  <cp:lastModifiedBy> </cp:lastModifiedBy>
  <dcterms:modified xsi:type="dcterms:W3CDTF">2008-01-08T16:58:01Z</dcterms:modified>
  <cp:revision>52</cp:revision>
  <dc:subject/>
  <dc:title>ACG 5405 Intro</dc:title>
</cp:coreProperties>
</file>